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ED4-CE64-450C-B577-D7C37A31E3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4273-1574-4988-B031-4740972AE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E25-6596-474F-8AC5-32897BAB5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DD8D-13E4-46D2-8D2A-A7FE0C44F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8159-D79E-46A9-A9EA-1CD9931F6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5CF0-9BA3-4321-92FB-C6722DC8E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CF6A-3357-416D-8151-17CF64AB06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B13A-12E6-4157-B152-18331BD58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307D-E4E8-4E97-B24E-7BDCC6B57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A95-7055-4A4F-98EF-7CA12DD2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64-9894-4656-96C0-853641CC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18D-021E-4D96-B4C7-9C02B98F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C40-3F05-420A-A76F-47F2C4F4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5F1-FEEA-4F7C-A2FE-AEE19783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F46-B42B-4A77-BC1C-C9C8BC37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4B6-82EC-4F91-A0A1-A390BE67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F8C-A69B-474F-B78E-2831118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F42-BB7D-4823-BAAE-1568FF4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5ED-51F2-423C-B63B-A388A4E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21B-2DEA-4FDE-B4F1-643CE89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A60-0DB0-4D9F-92BD-56C9FA8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12AE-8B9F-4762-9045-9157D8E94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0_9b9e_f9b4b967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64818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askerville Old Face"/>
              </a:rPr>
              <a:t>Жизнь и творче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4356000" y="952560"/>
            <a:ext cx="4630680" cy="590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267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Фёдора   Иванови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97164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79280" y="4437000"/>
            <a:ext cx="3816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Выполнила: ученица 8 класса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редней школы №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Г. Ку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askerville Old Face"/>
              </a:rPr>
              <a:t>Сотник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3857760" y="6357960"/>
            <a:ext cx="228600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askerville Old Face"/>
              </a:rPr>
              <a:t>Биогра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08000" y="112500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Фёд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Иванович (1803 — 1873) — известный поэт, один из самых выдающихся представителей философской и политическ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Родился 23 ноября ( 5 декабря н.с.)  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садьбе  Овстуг Орловской губерни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ародворянской      среднепо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мье. Детские годы прошли в Овсту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юношеские — связаны с Моск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5796000" y="213372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9280" y="3500280"/>
            <a:ext cx="8713800" cy="316872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омашним образованием руков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молодой   поэт-переводчик    С. Раи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знакомивший ученика с твор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этов  и  поощрявший  его  пер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тихотворные опыты. В 12 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Тютчев уже успешно переводил Гор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19 поступил на словесное отделение Московского университета и сразу принял живое участие в его литературной жизни. Окончив университет в 1821 со степенью кандидата словесных наук, в начале 1822 Тютчев поступил на службу в Государственную коллегию иностранных дел. Через несколько месяцев был назначен чиновником при Русской дипломатической миссии в Мюнхене. С этого времени его связь с русской литературной жизнью надолго прер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6300720" y="115920"/>
            <a:ext cx="253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217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 чужбине Тютчев провел двадцат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года, из них двадцать — в Мюнхене. Здесь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ился,  здесь  познакомился  с философ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еллингом  и  подружился  с Г. Гейне, 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вым переводчиком его стихов на 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29 — 1830 в журнале Раича "Галатея" были опубликованы стихотворения Тютчева, свидетельствовавшие о зрелости его поэтического таланта ("Летний вечер", "Видение", "Бессонница", "Сны"), но не принесшие известности ав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стоящее признание поэзия Тютчева впервые получила в 1836, когда в пушкинском "Современнике" появились его 16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i"/>
          <p:cNvPicPr/>
          <p:nvPr/>
        </p:nvPicPr>
        <p:blipFill>
          <a:blip r:embed="rId2"/>
          <a:stretch/>
        </p:blipFill>
        <p:spPr>
          <a:xfrm>
            <a:off x="6419880" y="0"/>
            <a:ext cx="2549520" cy="321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804000" y="3213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588000" y="3213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леонора Петер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181440" y="188640"/>
            <a:ext cx="9145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37 Тютчев был назначен перв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екретарем Русской миссии в Турине, 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ережил первую тяжелую утрату: умер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жена.  В  1839  он  вступил  в нов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лужебный проступок Тютчева (отъезд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Швейцарию для венчания с Э. Дернбер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ложил конец его дипломатическ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дал в отставку и поселился в Мюнхене, где провел еще пять лет, не имея никакого официального положения. Настойчиво искал пути возвращения на служ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4 переехал с семьей в Россию, а через полгода вновь был принят на службу в Министерство иностранных д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0_62248_2bd0ee89_XL"/>
          <p:cNvPicPr/>
          <p:nvPr/>
        </p:nvPicPr>
        <p:blipFill>
          <a:blip r:embed="rId2"/>
          <a:stretch/>
        </p:blipFill>
        <p:spPr>
          <a:xfrm>
            <a:off x="6443640" y="189000"/>
            <a:ext cx="2557440" cy="309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551640" y="3357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askerville Old Face"/>
              </a:rPr>
              <a:t>Эрнестина Дёр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1843 — 1850 выступил с политическими статьями "Россия и Германия", "Россия и Революция", "Папство и римский вопрос", делая вывод о неизбежности столкновения между Россией и Западом и конечного торжества "России будущего", которая представлялась ему "всеславянской" импе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48 — 1849, захваченный событиями политической жизни, он создал такие прекрасные стихотворения, как "Неохотно и несмело...", "Когда в кругу убийственных забот...", "Русской женщине" и др., но не стремился напечата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ачалом поэтической известности Тютчева и толчком к его активному творчеству стала статья Некрасова "Русские второстепенные поэты" в журнале "Современник", в которой говорилось о таланте этого поэта, не замеченного критикой, и публикация 24 стихотворений Тютчева. К поэту пришло настоящее при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08000" y="188640"/>
            <a:ext cx="925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4 вышел первый сборник стихотвор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этом же году был напечатан цикл стихов 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любви,    посвященных    Елене    Денисье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"Беззаконные"   в   глазах   света  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немолодого  поэта  с  ровесницей  его  доч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родолжались в течение четырнадцати лет и были очень драматичны (Тютчев был жен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1858 он был назначен председателем Комитета иностранной цензуры, не раз выступая заступником преследуем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С 1864 Тютчев несет одну потерю за друго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умирает от чахотки Денисьева, через год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двое их детей, его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4"/>
          <p:cNvPicPr/>
          <p:nvPr/>
        </p:nvPicPr>
        <p:blipFill>
          <a:blip r:embed="rId2"/>
          <a:stretch/>
        </p:blipFill>
        <p:spPr>
          <a:xfrm>
            <a:off x="6964200" y="0"/>
            <a:ext cx="2179800" cy="25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1470-6-b"/>
          <p:cNvPicPr/>
          <p:nvPr/>
        </p:nvPicPr>
        <p:blipFill>
          <a:blip r:embed="rId3"/>
          <a:stretch/>
        </p:blipFill>
        <p:spPr>
          <a:xfrm>
            <a:off x="6851520" y="4149720"/>
            <a:ext cx="2292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252360" y="260280"/>
            <a:ext cx="879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В творчестве Тютчева 1860? преобладают политические стихотворения и мелкие. — "на случаи" ("Когда дряхлеющие силы...", 1866, "Славянам", 1867,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Baskerville Old Face"/>
              </a:rPr>
              <a:t>Последние годы жизни  тоже омрачены тяжелыми утратами: умирают его старший сын, брат, дочь Мария. Жизнь поэта угасает. 15 июля (27 н.с.) 1873 в Царском Селе Тютчев сконч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9256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_6b0fd_a357744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627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askerville Old Face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8307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51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8:05:39Z</dcterms:created>
  <dc:creator>1</dc:creator>
  <dc:description/>
  <dc:language>en-US</dc:language>
  <cp:lastModifiedBy>LEGION</cp:lastModifiedBy>
  <dcterms:modified xsi:type="dcterms:W3CDTF">2015-01-20T08:16:53Z</dcterms:modified>
  <cp:revision>4</cp:revision>
  <dc:subject/>
  <dc:title>Слайд 1</dc:title>
</cp:coreProperties>
</file>